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E63B-E47B-4D6D-B18A-260C55E5D2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DC0F-978F-432E-893B-8441A568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9F8-0D8B-4235-9126-E161B1A8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70A-A513-483F-AEAB-450C597F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3AA-A660-4B28-A092-7314E763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468-FCEE-4D98-9112-D485E3FA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C45-9A21-4552-85E7-E85C078B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16E-1630-4B00-AD10-19E0018E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142-8F1A-4BEB-8E2F-61D04011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280-2983-4F14-B475-4859F828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FA0-1931-4B5C-8E27-BCD8313D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A2A-DFE3-4C17-A70E-BDAA0C36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2FA-23B7-4CF7-BB7F-20848C4D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3A29-2D76-419E-8FDE-CC2AAA63E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0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RomaK</cp:lastModifiedBy>
  <dcterms:modified xsi:type="dcterms:W3CDTF">2015-09-04T07:39:27Z</dcterms:modified>
  <cp:revision>10</cp:revision>
  <dc:subject/>
  <dc:title>Directly and inversely proportional</dc:title>
</cp:coreProperties>
</file>